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DF50-7CD8-4EEB-820A-9709EBFE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B2EE-BF30-4483-87DF-6C57AA95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920F-682F-44F6-8550-86DC0280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1AC6-04FF-4A1C-86D9-3C4B422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B17E-C9C9-414E-9EA0-2EEA71A3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2FDB-9765-4BA2-8620-D62281B0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C5A9-8473-482A-B7F9-C754D5E5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B04-2C83-4ECF-8934-B2335DA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F6D-BA37-4658-80B5-D0D8C119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B8D0-5CAA-4332-8456-8EEC89FB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D935-4B49-41EF-86AF-8B8F89B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5814-D862-4334-AB68-7FBA855B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0273-1A05-4EB2-B37A-9F608D2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1663-F39C-4C06-AFDB-014BC18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49E5-DE12-4A52-93ED-58BEDCFA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377-57FB-48F6-837A-1818C18C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882A-0945-4E61-9F7B-00FF7094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6754-47D1-468F-B729-B69B060C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A5F7-2EC9-4DAE-AE15-1D019324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F0C9-350F-4F13-89B7-EA63D5F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1D55-7C13-4CBB-9606-D149B70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0F7E-3053-4175-8AB9-E9DB68F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31AD-B1A0-4101-B7FE-ED57089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B24A-DD75-4AEB-8426-52ABAF0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A98D-9366-4A95-B4F9-7FBFAA7F9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59E-A11B-4D66-AB6F-88C336C79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ost Common Injuries Seen In Sport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ke Najj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Bl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533520" y="198108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P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1048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hamstring%20muscles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ck Str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0" y="1523880"/>
            <a:ext cx="45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6" descr="06010_01A"/>
          <p:cNvPicPr/>
          <p:nvPr/>
        </p:nvPicPr>
        <p:blipFill>
          <a:blip r:embed="rId1"/>
          <a:stretch/>
        </p:blipFill>
        <p:spPr>
          <a:xfrm>
            <a:off x="1752480" y="1676520"/>
            <a:ext cx="577224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ozen Should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685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438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shoulder"/>
          <p:cNvPicPr/>
          <p:nvPr/>
        </p:nvPicPr>
        <p:blipFill>
          <a:blip r:embed="rId1"/>
          <a:stretch/>
        </p:blipFill>
        <p:spPr>
          <a:xfrm>
            <a:off x="2362320" y="1752480"/>
            <a:ext cx="447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ained Lower Bac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03848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14387-1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ndonitis in the Elbo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1066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ElbowTendonitis"/>
          <p:cNvPicPr/>
          <p:nvPr/>
        </p:nvPicPr>
        <p:blipFill>
          <a:blip r:embed="rId1"/>
          <a:stretch/>
        </p:blipFill>
        <p:spPr>
          <a:xfrm>
            <a:off x="1371600" y="1676520"/>
            <a:ext cx="57913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nner</a:t>
            </a:r>
            <a:r>
              <a:rPr b="1" lang="ja-JP" sz="4400" spc="-1" strike="noStrike">
                <a:solidFill>
                  <a:srgbClr val="e5e5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 Kn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0" y="7162560"/>
            <a:ext cx="76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Knee+strap+knee+tendon+patellar+tendon+support+UK"/>
          <p:cNvPicPr/>
          <p:nvPr/>
        </p:nvPicPr>
        <p:blipFill>
          <a:blip r:embed="rId1"/>
          <a:stretch/>
        </p:blipFill>
        <p:spPr>
          <a:xfrm>
            <a:off x="1828800" y="14479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in Spli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83808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shinsplints1"/>
          <p:cNvPicPr/>
          <p:nvPr/>
        </p:nvPicPr>
        <p:blipFill>
          <a:blip r:embed="rId1"/>
          <a:stretch/>
        </p:blipFill>
        <p:spPr>
          <a:xfrm>
            <a:off x="2819520" y="1447920"/>
            <a:ext cx="3562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 for Inju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-inflammatory medic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12:21Z</dcterms:created>
  <dc:creator>EHS</dc:creator>
  <dc:description/>
  <dc:language>en-US</dc:language>
  <cp:lastModifiedBy>Belmont Hill Belmont Hill School</cp:lastModifiedBy>
  <dcterms:modified xsi:type="dcterms:W3CDTF">2011-05-03T18:33:31Z</dcterms:modified>
  <cp:revision>6</cp:revision>
  <dc:subject/>
  <dc:title>Most Common Injuries Seen In Sports</dc:title>
</cp:coreProperties>
</file>